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D11-6726-4552-B1F7-94202E6E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BD4-8DB8-437D-8E43-D9D7583A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A2F-4147-4939-B64F-F66BFFDE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92E-D3DC-420D-B031-EBED9991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CA1-111B-4624-A7BF-B02041A8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B82-D4D3-44CC-99CE-EED7E3B3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F98-7D1D-4D63-8A77-4F4106EC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FEF-5C2B-4442-9A48-89BDFBBA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1F9-5AF1-4F94-A9D4-83BF4402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859-CAED-431C-9CF0-0C3F7546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AEB-BEE6-4BA1-860A-8F39767E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E0E-0C27-4541-866D-3C67D5A1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69AF-5B19-41D7-A280-7790A04EEAF5}" type="slidenum"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-2248200" y="30859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1905120"/>
            <a:ext cx="7543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Lucida Sans Unicode"/>
              </a:rPr>
              <a:t>TX SET 2.1</a:t>
            </a:r>
            <a:br>
              <a:rPr sz="4400"/>
            </a:br>
            <a:r>
              <a:rPr b="0" lang="en-US" sz="3600" spc="-1" strike="noStrike">
                <a:solidFill>
                  <a:srgbClr val="000066"/>
                </a:solidFill>
                <a:latin typeface="Lucida Sans Unicode"/>
              </a:rPr>
              <a:t>March 8</a:t>
            </a:r>
            <a:r>
              <a:rPr b="0" lang="en-US" sz="3600" spc="-1" strike="noStrike" baseline="30000">
                <a:solidFill>
                  <a:srgbClr val="000066"/>
                </a:solidFill>
                <a:latin typeface="Lucida Sans Unicode"/>
              </a:rPr>
              <a:t>th</a:t>
            </a:r>
            <a:r>
              <a:rPr b="0" lang="en-US" sz="3600" spc="-1" strike="noStrike">
                <a:solidFill>
                  <a:srgbClr val="000066"/>
                </a:solidFill>
                <a:latin typeface="Lucida Sans Unicode"/>
              </a:rPr>
              <a:t>, 2005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399320" y="1128240"/>
            <a:ext cx="3561120" cy="2390760"/>
            <a:chOff x="1399320" y="1128240"/>
            <a:chExt cx="3561120" cy="2390760"/>
          </a:xfrm>
        </p:grpSpPr>
        <p:sp>
          <p:nvSpPr>
            <p:cNvPr id="49" name=""/>
            <p:cNvSpPr/>
            <p:nvPr/>
          </p:nvSpPr>
          <p:spPr>
            <a:xfrm>
              <a:off x="1676520" y="1333440"/>
              <a:ext cx="2503440" cy="17701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2543600">
              <a:off x="1821960" y="1294920"/>
              <a:ext cx="1219320" cy="2057400"/>
            </a:xfrm>
            <a:prstGeom prst="star5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0747400">
              <a:off x="3047760" y="1333080"/>
              <a:ext cx="1552320" cy="1454040"/>
            </a:xfrm>
            <a:custGeom>
              <a:avLst/>
              <a:gdLst>
                <a:gd name="textAreaLeft" fmla="*/ 0 w 1552320"/>
                <a:gd name="textAreaRight" fmla="*/ 1552680 w 1552320"/>
                <a:gd name="textAreaTop" fmla="*/ 188280 h 1454040"/>
                <a:gd name="textAreaBottom" fmla="*/ 1265760 h 145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0747400">
              <a:off x="3217680" y="1883880"/>
              <a:ext cx="1658880" cy="8892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115200 h 889200"/>
                <a:gd name="textAreaBottom" fmla="*/ 774000 h 8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2257560" y="1523880"/>
              <a:ext cx="1171440" cy="135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1" strike="noStrike">
                  <a:ln w="25560">
                    <a:solidFill>
                      <a:srgbClr val="ffff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TX</a:t>
              </a:r>
              <a:endParaRPr b="1" i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3319560" y="1828800"/>
              <a:ext cx="1252440" cy="59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92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SET</a:t>
              </a:r>
              <a:endParaRPr b="1" i="1" lang="en-US" sz="6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5400000">
            <a:off x="-2248200" y="30859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295280"/>
            <a:ext cx="853416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Lucida Sans Unicode"/>
              </a:rPr>
              <a:t>Retail Market Subcommittee approved a timeline for a TX SET version release before close of year ’05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Lucida Sans Unicode"/>
              </a:rPr>
              <a:t>Published</a:t>
            </a:r>
            <a:r>
              <a:rPr b="1" lang="en-US" sz="2400" spc="-1" strike="noStrike">
                <a:solidFill>
                  <a:srgbClr val="000066"/>
                </a:solidFill>
                <a:latin typeface="Lucida Sans Unicode"/>
              </a:rPr>
              <a:t>: March 2005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Lucida Sans Unicode"/>
              </a:rPr>
              <a:t>Implementation Date (I.D.)</a:t>
            </a:r>
            <a:r>
              <a:rPr b="1" lang="en-US" sz="2400" spc="-1" strike="noStrike">
                <a:solidFill>
                  <a:srgbClr val="000066"/>
                </a:solidFill>
                <a:latin typeface="Lucida Sans Unicode"/>
              </a:rPr>
              <a:t>: To be determined by 2.1 Market Coordination Team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Lucida Sans Unicode"/>
              </a:rPr>
              <a:t>Test Flight</a:t>
            </a:r>
            <a:r>
              <a:rPr b="1" lang="en-US" sz="2400" spc="-1" strike="noStrike">
                <a:solidFill>
                  <a:srgbClr val="000066"/>
                </a:solidFill>
                <a:latin typeface="Lucida Sans Unicode"/>
              </a:rPr>
              <a:t>: 1005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09120" y="-74160"/>
            <a:ext cx="4496400" cy="2053080"/>
            <a:chOff x="609120" y="-74160"/>
            <a:chExt cx="4496400" cy="2053080"/>
          </a:xfrm>
        </p:grpSpPr>
        <p:sp>
          <p:nvSpPr>
            <p:cNvPr id="64" name=""/>
            <p:cNvSpPr/>
            <p:nvPr/>
          </p:nvSpPr>
          <p:spPr>
            <a:xfrm>
              <a:off x="838080" y="108000"/>
              <a:ext cx="2205000" cy="1509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2543600">
              <a:off x="966960" y="75960"/>
              <a:ext cx="1072800" cy="1752480"/>
            </a:xfrm>
            <a:prstGeom prst="star5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0747400">
              <a:off x="2047680" y="108000"/>
              <a:ext cx="1366560" cy="1239840"/>
            </a:xfrm>
            <a:custGeom>
              <a:avLst/>
              <a:gdLst>
                <a:gd name="textAreaLeft" fmla="*/ 0 w 1366560"/>
                <a:gd name="textAreaRight" fmla="*/ 1366920 w 1366560"/>
                <a:gd name="textAreaTop" fmla="*/ 160560 h 1239840"/>
                <a:gd name="textAreaBottom" fmla="*/ 1079280 h 12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0747400">
              <a:off x="2197080" y="577440"/>
              <a:ext cx="1460520" cy="757440"/>
            </a:xfrm>
            <a:custGeom>
              <a:avLst/>
              <a:gdLst>
                <a:gd name="textAreaLeft" fmla="*/ 0 w 1460520"/>
                <a:gd name="textAreaRight" fmla="*/ 1460880 w 1460520"/>
                <a:gd name="textAreaTop" fmla="*/ 97920 h 757440"/>
                <a:gd name="textAreaBottom" fmla="*/ 659520 h 7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1328760" y="233280"/>
              <a:ext cx="3776760" cy="121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1" strike="noStrike">
                  <a:ln w="25560">
                    <a:solidFill>
                      <a:srgbClr val="ffff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Background</a:t>
              </a:r>
              <a:endParaRPr b="1" i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5400000">
            <a:off x="-2248200" y="30859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295280"/>
            <a:ext cx="853416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752480"/>
            <a:ext cx="83055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Lucida Sans Unicode"/>
              </a:rPr>
              <a:t>Contains</a:t>
            </a:r>
            <a:r>
              <a:rPr b="1" lang="en-US" sz="2000" spc="-1" strike="noStrike">
                <a:solidFill>
                  <a:srgbClr val="000066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Approximately 50 Change Control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Will apply the decisions from the 810/867/824 Taskforce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Lucida Sans Unicode"/>
              </a:rPr>
              <a:t>824 Reject cod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Lucida Sans Unicode"/>
              </a:rPr>
              <a:t>Will provide CRs with “Billing Determinants” on the 810_02 Invoic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Will apply decision from the Transaction Improvement Task Force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Lucida Sans Unicode"/>
              </a:rPr>
              <a:t>814_24 will have indicator code for 2</a:t>
            </a:r>
            <a:r>
              <a:rPr b="1" lang="en-US" sz="1600" spc="-1" strike="noStrike" baseline="30000">
                <a:solidFill>
                  <a:srgbClr val="000066"/>
                </a:solidFill>
                <a:latin typeface="Lucida Sans Unicode"/>
              </a:rPr>
              <a:t>nd</a:t>
            </a:r>
            <a:r>
              <a:rPr b="1" lang="en-US" sz="1600" spc="-1" strike="noStrike">
                <a:solidFill>
                  <a:srgbClr val="000066"/>
                </a:solidFill>
                <a:latin typeface="Lucida Sans Unicode"/>
              </a:rPr>
              <a:t> MVO reques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Will apply decisions from the DNP Taskforce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Lucida Sans Unicode"/>
              </a:rPr>
              <a:t>650 – CRs must authorize TDSP to disconnect services at a Premium Location for a Disconnect Non-Payment before premium disconnect charges are accepted by the CR.</a:t>
            </a:r>
            <a:r>
              <a:rPr b="1" lang="en-US" sz="16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Lucida Sans Unicode"/>
              </a:rPr>
              <a:t>650 – One to One relationship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Will apply changes that are necessary for CRs to operate in Muni/Coop territorie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08000"/>
            <a:ext cx="2205000" cy="15098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8" name=""/>
          <p:cNvSpPr/>
          <p:nvPr/>
        </p:nvSpPr>
        <p:spPr>
          <a:xfrm rot="12543600">
            <a:off x="966960" y="75960"/>
            <a:ext cx="1072800" cy="175248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"/>
          <p:cNvSpPr/>
          <p:nvPr/>
        </p:nvSpPr>
        <p:spPr>
          <a:xfrm rot="20747400">
            <a:off x="2047680" y="108000"/>
            <a:ext cx="1366560" cy="1239840"/>
          </a:xfrm>
          <a:custGeom>
            <a:avLst/>
            <a:gdLst>
              <a:gd name="textAreaLeft" fmla="*/ 0 w 1366560"/>
              <a:gd name="textAreaRight" fmla="*/ 1366920 w 1366560"/>
              <a:gd name="textAreaTop" fmla="*/ 160560 h 1239840"/>
              <a:gd name="textAreaBottom" fmla="*/ 10792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"/>
          <p:cNvSpPr/>
          <p:nvPr/>
        </p:nvSpPr>
        <p:spPr>
          <a:xfrm rot="20747400">
            <a:off x="2197080" y="577440"/>
            <a:ext cx="1460520" cy="757440"/>
          </a:xfrm>
          <a:custGeom>
            <a:avLst/>
            <a:gdLst>
              <a:gd name="textAreaLeft" fmla="*/ 0 w 1460520"/>
              <a:gd name="textAreaRight" fmla="*/ 1460880 w 1460520"/>
              <a:gd name="textAreaTop" fmla="*/ 97920 h 757440"/>
              <a:gd name="textAreaBottom" fmla="*/ 659520 h 757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28760" y="233280"/>
            <a:ext cx="362412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ighlights</a:t>
            </a:r>
            <a:endParaRPr b="1" i="1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rot="5400000">
            <a:off x="-2248200" y="30859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295280"/>
            <a:ext cx="853416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08000"/>
            <a:ext cx="2205000" cy="15098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"/>
          <p:cNvSpPr/>
          <p:nvPr/>
        </p:nvSpPr>
        <p:spPr>
          <a:xfrm rot="12543600">
            <a:off x="966960" y="75960"/>
            <a:ext cx="1072800" cy="175248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"/>
          <p:cNvSpPr/>
          <p:nvPr/>
        </p:nvSpPr>
        <p:spPr>
          <a:xfrm rot="20747400">
            <a:off x="2047680" y="108000"/>
            <a:ext cx="1366560" cy="1239840"/>
          </a:xfrm>
          <a:custGeom>
            <a:avLst/>
            <a:gdLst>
              <a:gd name="textAreaLeft" fmla="*/ 0 w 1366560"/>
              <a:gd name="textAreaRight" fmla="*/ 1366920 w 1366560"/>
              <a:gd name="textAreaTop" fmla="*/ 160560 h 1239840"/>
              <a:gd name="textAreaBottom" fmla="*/ 10792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"/>
          <p:cNvSpPr/>
          <p:nvPr/>
        </p:nvSpPr>
        <p:spPr>
          <a:xfrm rot="20747400">
            <a:off x="2197080" y="577440"/>
            <a:ext cx="1460520" cy="757440"/>
          </a:xfrm>
          <a:custGeom>
            <a:avLst/>
            <a:gdLst>
              <a:gd name="textAreaLeft" fmla="*/ 0 w 1460520"/>
              <a:gd name="textAreaRight" fmla="*/ 1460880 w 1460520"/>
              <a:gd name="textAreaTop" fmla="*/ 97920 h 757440"/>
              <a:gd name="textAreaBottom" fmla="*/ 659520 h 757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28760" y="233280"/>
            <a:ext cx="377676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liverables</a:t>
            </a:r>
            <a:endParaRPr b="1" i="1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Lucida Sans Unicode"/>
              </a:rPr>
              <a:t>TX SET 2.1 Requirements docu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Sent to: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Lucida Sans Unicode"/>
              </a:rPr>
              <a:t>2.1 Market Coordination Team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Lucida Sans Unicode"/>
              </a:rPr>
              <a:t>Texas Test Plan Script Subteam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What is it used for?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Lucida Sans Unicode"/>
              </a:rPr>
              <a:t>The document applies business applications and functionality to the approved TX SET change control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Status: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Lucida Sans Unicode"/>
              </a:rPr>
              <a:t>Complet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Lucida Sans Unicode"/>
              </a:rPr>
              <a:t>TX SET 2.1 Implementation Guid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Sent to: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Lucida Sans Unicode"/>
              </a:rPr>
              <a:t>TX Retail Marke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Lucida Sans Unicode"/>
              </a:rPr>
              <a:t>By way of the TX SET Website Posting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What is it used for?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Lucida Sans Unicode"/>
              </a:rPr>
              <a:t>For programmers to code for the TX SET upgrad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Statu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Lucida Sans Unicode"/>
              </a:rPr>
              <a:t>REDLINE</a:t>
            </a:r>
            <a:r>
              <a:rPr b="1" lang="en-US" sz="1600" spc="-1" strike="noStrike">
                <a:solidFill>
                  <a:srgbClr val="000066"/>
                </a:solidFill>
                <a:latin typeface="Lucida Sans Unicode"/>
              </a:rPr>
              <a:t> Assignments given to TX SET Membership 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5400000">
            <a:off x="-2248200" y="30859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295280"/>
            <a:ext cx="853416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08000"/>
            <a:ext cx="2205000" cy="15098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" name=""/>
          <p:cNvSpPr/>
          <p:nvPr/>
        </p:nvSpPr>
        <p:spPr>
          <a:xfrm rot="12543600">
            <a:off x="966960" y="75960"/>
            <a:ext cx="1072800" cy="175248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"/>
          <p:cNvSpPr/>
          <p:nvPr/>
        </p:nvSpPr>
        <p:spPr>
          <a:xfrm rot="20747400">
            <a:off x="2047680" y="108000"/>
            <a:ext cx="1366560" cy="1239840"/>
          </a:xfrm>
          <a:custGeom>
            <a:avLst/>
            <a:gdLst>
              <a:gd name="textAreaLeft" fmla="*/ 0 w 1366560"/>
              <a:gd name="textAreaRight" fmla="*/ 1366920 w 1366560"/>
              <a:gd name="textAreaTop" fmla="*/ 160560 h 1239840"/>
              <a:gd name="textAreaBottom" fmla="*/ 10792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5" name=""/>
          <p:cNvSpPr/>
          <p:nvPr/>
        </p:nvSpPr>
        <p:spPr>
          <a:xfrm rot="20747400">
            <a:off x="2197080" y="577440"/>
            <a:ext cx="1460520" cy="757440"/>
          </a:xfrm>
          <a:custGeom>
            <a:avLst/>
            <a:gdLst>
              <a:gd name="textAreaLeft" fmla="*/ 0 w 1460520"/>
              <a:gd name="textAreaRight" fmla="*/ 1460880 w 1460520"/>
              <a:gd name="textAreaTop" fmla="*/ 97920 h 757440"/>
              <a:gd name="textAreaBottom" fmla="*/ 659520 h 757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28760" y="233280"/>
            <a:ext cx="491976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hange Controls*</a:t>
            </a:r>
            <a:endParaRPr b="1" i="1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4127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6186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*Change Controls per “TX SET CC Log” as of 3/3/05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rot="5400000">
            <a:off x="-2248200" y="30859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295280"/>
            <a:ext cx="853416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08000"/>
            <a:ext cx="2205000" cy="15098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" name=""/>
          <p:cNvSpPr/>
          <p:nvPr/>
        </p:nvSpPr>
        <p:spPr>
          <a:xfrm rot="12543600">
            <a:off x="966960" y="75960"/>
            <a:ext cx="1072800" cy="175248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" name=""/>
          <p:cNvSpPr/>
          <p:nvPr/>
        </p:nvSpPr>
        <p:spPr>
          <a:xfrm rot="20747400">
            <a:off x="2047680" y="108000"/>
            <a:ext cx="1366560" cy="1239840"/>
          </a:xfrm>
          <a:custGeom>
            <a:avLst/>
            <a:gdLst>
              <a:gd name="textAreaLeft" fmla="*/ 0 w 1366560"/>
              <a:gd name="textAreaRight" fmla="*/ 1366920 w 1366560"/>
              <a:gd name="textAreaTop" fmla="*/ 160560 h 1239840"/>
              <a:gd name="textAreaBottom" fmla="*/ 10792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"/>
          <p:cNvSpPr/>
          <p:nvPr/>
        </p:nvSpPr>
        <p:spPr>
          <a:xfrm rot="20747400">
            <a:off x="2197080" y="577440"/>
            <a:ext cx="1460520" cy="757440"/>
          </a:xfrm>
          <a:custGeom>
            <a:avLst/>
            <a:gdLst>
              <a:gd name="textAreaLeft" fmla="*/ 0 w 1460520"/>
              <a:gd name="textAreaRight" fmla="*/ 1460880 w 1460520"/>
              <a:gd name="textAreaTop" fmla="*/ 97920 h 757440"/>
              <a:gd name="textAreaBottom" fmla="*/ 659520 h 757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28760" y="233280"/>
            <a:ext cx="491976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hange Controls*</a:t>
            </a:r>
            <a:endParaRPr b="1" i="1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05920" cy="4376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6186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*Change Controls per “TX SET CC Log” as of 3/3/05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rot="5400000">
            <a:off x="-2248200" y="30859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295280"/>
            <a:ext cx="853416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08000"/>
            <a:ext cx="2205000" cy="15098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1" name=""/>
          <p:cNvSpPr/>
          <p:nvPr/>
        </p:nvSpPr>
        <p:spPr>
          <a:xfrm rot="12543600">
            <a:off x="966960" y="75960"/>
            <a:ext cx="1072800" cy="175248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"/>
          <p:cNvSpPr/>
          <p:nvPr/>
        </p:nvSpPr>
        <p:spPr>
          <a:xfrm rot="20747400">
            <a:off x="2047680" y="108000"/>
            <a:ext cx="1366560" cy="1239840"/>
          </a:xfrm>
          <a:custGeom>
            <a:avLst/>
            <a:gdLst>
              <a:gd name="textAreaLeft" fmla="*/ 0 w 1366560"/>
              <a:gd name="textAreaRight" fmla="*/ 1366920 w 1366560"/>
              <a:gd name="textAreaTop" fmla="*/ 160560 h 1239840"/>
              <a:gd name="textAreaBottom" fmla="*/ 10792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"/>
          <p:cNvSpPr/>
          <p:nvPr/>
        </p:nvSpPr>
        <p:spPr>
          <a:xfrm rot="20747400">
            <a:off x="2197080" y="577440"/>
            <a:ext cx="1460520" cy="757440"/>
          </a:xfrm>
          <a:custGeom>
            <a:avLst/>
            <a:gdLst>
              <a:gd name="textAreaLeft" fmla="*/ 0 w 1460520"/>
              <a:gd name="textAreaRight" fmla="*/ 1460880 w 1460520"/>
              <a:gd name="textAreaTop" fmla="*/ 97920 h 757440"/>
              <a:gd name="textAreaBottom" fmla="*/ 659520 h 757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28760" y="233280"/>
            <a:ext cx="491976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hange Controls*</a:t>
            </a:r>
            <a:endParaRPr b="1" i="1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4141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6186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*Change Controls per “TX SET CC Log” as of 3/3/05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rot="5400000">
            <a:off x="-2248200" y="30859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295280"/>
            <a:ext cx="853416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08000"/>
            <a:ext cx="2205000" cy="15098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"/>
          <p:cNvSpPr/>
          <p:nvPr/>
        </p:nvSpPr>
        <p:spPr>
          <a:xfrm rot="12543600">
            <a:off x="966960" y="75960"/>
            <a:ext cx="1072800" cy="175248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6" name=""/>
          <p:cNvSpPr/>
          <p:nvPr/>
        </p:nvSpPr>
        <p:spPr>
          <a:xfrm rot="20747400">
            <a:off x="2047680" y="108000"/>
            <a:ext cx="1366560" cy="1239840"/>
          </a:xfrm>
          <a:custGeom>
            <a:avLst/>
            <a:gdLst>
              <a:gd name="textAreaLeft" fmla="*/ 0 w 1366560"/>
              <a:gd name="textAreaRight" fmla="*/ 1366920 w 1366560"/>
              <a:gd name="textAreaTop" fmla="*/ 160560 h 1239840"/>
              <a:gd name="textAreaBottom" fmla="*/ 10792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"/>
          <p:cNvSpPr/>
          <p:nvPr/>
        </p:nvSpPr>
        <p:spPr>
          <a:xfrm rot="20747400">
            <a:off x="2197080" y="577440"/>
            <a:ext cx="1460520" cy="757440"/>
          </a:xfrm>
          <a:custGeom>
            <a:avLst/>
            <a:gdLst>
              <a:gd name="textAreaLeft" fmla="*/ 0 w 1460520"/>
              <a:gd name="textAreaRight" fmla="*/ 1460880 w 1460520"/>
              <a:gd name="textAreaTop" fmla="*/ 97920 h 757440"/>
              <a:gd name="textAreaBottom" fmla="*/ 659520 h 757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328760" y="233280"/>
            <a:ext cx="491976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hange Controls*</a:t>
            </a:r>
            <a:endParaRPr b="1" i="1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751040"/>
            <a:ext cx="8382240" cy="2973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6186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Lucida Sans Unicode"/>
              </a:rPr>
              <a:t>*Change Controls per “TX SET CC Log” as of 3/3/05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21:16:58Z</dcterms:created>
  <dc:creator>kpatrick</dc:creator>
  <dc:description/>
  <dc:language>en-US</dc:language>
  <cp:lastModifiedBy>Nathan Boren</cp:lastModifiedBy>
  <dcterms:modified xsi:type="dcterms:W3CDTF">2005-03-04T15:40:22Z</dcterms:modified>
  <cp:revision>22</cp:revision>
  <dc:subject/>
  <dc:title>Consecutive Monthly Estimations</dc:title>
</cp:coreProperties>
</file>